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907588" cy="80025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8F47-C4AB-4254-9ACA-CF85D00433A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ей называют полное уничтожение микроорганизмов и их спор на инструментах, посуде, медикаментах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цией называют полное уничтожение патогенных микроорганизмов на объектах окружающей среды с помощью химических веществ - дезинфекта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ерилизации и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ей называют полное уничтожение микроорганизмов и их спор на инструментах, посуде, медикаментах и т.д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езинфекцией называют полное уничтожение патогенных микроорганизмов на объектах окружающей среды с помощью химических веществ - дезинфектантов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ы стерилизации и дезинфек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азов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овой практике встречаются 3 основных метода низкотемпературной стерилизации: газовый этиленоксидный, газовый формальдегидный и плазмен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овая стерилизация осуществляется в специальных герметичных камерах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ующим агентом обычно являются: пары формалина (на дно камеры кладут таблетки формальдегида) или окись этилена. Инструменты, уложенные на сетку, считаются стерильными через 6-48 часов (в зависимости от компонентов газовой смеси и температуры в камере)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ой чертой метода является его минимальное отрицательное влияние на качество инструментария, в связи с чем способ используют прежде всего для стерилизации оптических, особо точных и дорогостоящих инструмент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газов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мировой практике встречаются 3 основных метода низкотемпературной стерилизации: газовый этиленоксидный, газовый формальдегидный и плазменны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азовая стерилизация осуществляется в специальных герметичных камерах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ующим агентом обычно являются: пары формалина (на дно камеры кладут таблетки формальдегида) или окись этилена. Инструменты, уложенные на сетку, считаются стерильными через 6-48 часов (в зависимости от компонентов газовой смеси и температуры в камере)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личительной чертой метода является его минимальное отрицательное влияние на качество инструментария, в связи с чем способ используют прежде всего для стерилизации оптических, особо точных и дорогостоящих инструмент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азов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терилизации пищевых продуктов, лекарственных препаратов и разного рода приборов, а также в лабораторной практике оправдало себя применение окиси этилена, которая убивает и вегетативные клетки, и споры, но действует только в том случае, если подвергаемые стерилизации материалы содержат некоторое количество (5-15%) воды. Окись этилена применяют в виде газовой смеси (с N2 или С02), в которой ее доля составляет от 2 до 5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леноксидный метод обеспечивает самый щадящий температурный режим стери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газов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стерилизации пищевых продуктов, лекарственных препаратов и разного рода приборов, а также в лабораторной практике оправдало себя применение окиси этилена, которая убивает и вегетативные клетки, и споры, но действует только в том случае, если подвергаемые стерилизации материалы содержат некоторое количество (5-15%) воды. Окись этилена применяют в виде газовой смеси (с N2 или С02), в которой ее доля составляет от 2 до 50%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иленоксидный метод обеспечивает самый щадящий температурный режим стерилиз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лазменн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зменный метод позволяет создать биоцидную среду на основе водного раствора пероксида водорода, а также низкотемпературной плазмы (ионизированный газ, образующийся при низком давлени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амый современный метод стерилизации, известный на сегодняшний день. Он позволяет стерилизовать любые медицинские изделия, от полых инструментов до кабелей, электроприборов,к которым в ряде случаев вообще не удается применить ни один из известных методов стери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методе после впрыскивания раствора перекиси водорода в стерилизационную камеру включается источник электромагнитного излучения частотой 13,56 Мгц, под воздействием которого одновременно происходит деление одной части молекул Н2О2 на две группы (ОН-), а другой части - на одну гидропероксильную группу (ООН-) и один атом водорода, сопровождающееся выделением видимого и ультрафиолетового излучения. В результате создается биоцидная среда, состоящая из молекул перекиси водорода, свободных радикалов и ультрафиолетового изл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лазменн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зменный метод позволяет создать биоцидную среду на основе водного раствора пероксида водорода, а также низкотемпературной плазмы (ионизированный газ, образующийся при низком давлении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 самый современный метод стерилизации, известный на сегодняшний день. Он позволяет стерилизовать любые медицинские изделия, от полых инструментов до кабелей, электроприборов,к которым в ряде случаев вообще не удается применить ни один из известных методов стерилиз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этом методе после впрыскивания раствора перекиси водорода в стерилизационную камеру включается источник электромагнитного излучения частотой 13,56 Мгц, под воздействием которого одновременно происходит деление одной части молекул Н2О2 на две группы (ОН-), а другой части - на одну гидропероксильную группу (ООН-) и один атом водорода, сопровождающееся выделением видимого и ультрафиолетового излучения. В результате создается биоцидная среда, состоящая из молекул перекиси водорода, свободных радикалов и ультрафиолетового излуч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зма образуется под воздействием сильного электромагнитного излучения в атмосфере паров перекиси водорода. При отключении электромагнитного поля свободные радикалы преобразуются в молекулы воды и кислорода, не оставляя никаких токсичных отх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мальное время обработки в плазменном стерилизаторе – от 35 минут, рабочая температура – 36-60°С. Одно из основных преимуществ этого метода – отсутствие токсичных отходов, образуются только кислород и водный пар. Плазменная стерилизация уничтожает все формы и виды микроорганизм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зменные стерилизаторы – перспективное оборудование, но для большинства российских медицинских учреждений слишком дорогостоящ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зма образуется под воздействием сильного электромагнитного излучения в атмосфере паров перекиси водорода. При отключении электромагнитного поля свободные радикалы преобразуются в молекулы воды и кислорода, не оставляя никаких токсичных отход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нимальное время обработки в плазменном стерилизаторе – от 35 минут, рабочая температура – 36-60°С. Одно из основных преимуществ этого метода – отсутствие токсичных отходов, образуются только кислород и водный пар. Плазменная стерилизация уничтожает все формы и виды микроорганизм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зменные стерилизаторы – перспективное оборудование, но для большинства российских медицинских учреждений слишком дорогостояще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астворами антисептик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растворами химических антисептиков, также как лучевая и газовая стерилизация, относится к холодным способам стерилизации и не приводит к затуплению инструментов, в связи с чем применяется для обработки прежде всего режущих хирургических инструментов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терилизации в основном используют три раствора: тройной раствор, 96° этиловый спирт и 6% перекись водорода. В последнее время для холодной стерилизации оптических инструментов стали применять спиртовой раствор хлоргексидина, первомур и другие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холодной стерилизации инструменты полностью погружают в раскрытом (или разобранном) виде в один из указанных растворов. При замачивании в спирте и тройном растворе инструменты считаются стерильными через 2-3 часа, в перекиси водорода - через 6 час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метод представляет интерес для стерилизации растворов, содержащих лекарственные вещества, изменяющиеся при воздействии высокой темпера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антисептиков находят применение: фенол, трикрезол, хинозол, нипагин, нипазол, хлорэтон, меркурофен и цефирол. В литературе имеются также сообщения о применении для этой цели хлоркрезола, хлорбутола, фенилмеркурнитрата, соединений четвертичного аммония (бензалконий, цетримид) и некоторых других веще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растворами антисептиков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растворами химических антисептиков, также как лучевая и газовая стерилизация, относится к холодным способам стерилизации и не приводит к затуплению инструментов, в связи с чем применяется для обработки прежде всего режущих хирургических инструментов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стерилизации в основном используют три раствора: тройной раствор, 96° этиловый спирт и 6% перекись водорода. В последнее время для холодной стерилизации оптических инструментов стали применять спиртовой раствор хлоргексидина, первомур и другие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холодной стерилизации инструменты полностью погружают в раскрытом (или разобранном) виде в один из указанных растворов. При замачивании в спирте и тройном растворе инструменты считаются стерильными через 2-3 часа, в перекиси водорода - через 6 час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анный метод представляет интерес для стерилизации растворов, содержащих лекарственные вещества, изменяющиеся при воздействии высокой температур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ачестве антисептиков находят применение: фенол, трикрезол, хинозол, нипагин, нипазол, хлорэтон, меркурофен и цефирол. В литературе имеются также сообщения о применении для этой цели хлоркрезола, хлорбутола, фенилмеркурнитрата, соединений четвертичного аммония (бензалконий, цетримид) и некоторых других вещест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боловая кислота входит в тройной раствор (раствор Крупенина). Им стерилизуют режущие инструменты и предметы из пластмасс. В нем хранятся простерилизованные иглы, скальпели, корнцанги, полиэтиленовые труб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зол с зеленым мылом используется для помывки стен, полов, мебели операционно-перевязочного блока, а также для обработки инструментов, резиновых перчаток, предметов, загрязненных гноем или калом во время опе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лема (дихлорид ртути) 1 : 1000, 1 : 3000 Стерилизуются перчатки, дренажи и другие предм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сицианид ртути 1 : 10000 применяется для стерилизации мочеточниковых катетеров, цистоскопов и других инструментов с оптик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оцид - препарат ртути, сочетает в себе антисептические и моющие свойства. Некоторые используют для обработки рук хирурга - руки моют в тазу раствором 1 : 3000, 1 : 5000 - 6 ми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ловый спирт применяется для стерилизации режущих инструментов, резиновых и полиэтиленовых трубок, 96%-м спиртом дубят руки хирурги перед опера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я 70%-й спирт бактерициднее 96%-го, однако спорообразная инфекция не погибает длительное время. Возбудители газовой гангрены и споры сибирской язвы могут сохраняться в спирте в течение нескольких меся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величения бактерицидности спиртовых растворов к ним добавляются тимол (1 : 1000), 1%-й раствор бриллиантового зеленого (раствор Баккала), формалин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рболовая кислота входит в тройной раствор (раствор Крупенина). Им стерилизуют режущие инструменты и предметы из пластмасс. В нем хранятся простерилизованные иглы, скальпели, корнцанги, полиэтиленовые трубк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зол с зеленым мылом используется для помывки стен, полов, мебели операционно-перевязочного блока, а также для обработки инструментов, резиновых перчаток, предметов, загрязненных гноем или калом во время опер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лема (дихлорид ртути) 1 : 1000, 1 : 3000 Стерилизуются перчатки, дренажи и другие предмет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ксицианид ртути 1 : 10000 применяется для стерилизации мочеточниковых катетеров, цистоскопов и других инструментов с оптико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оцид - препарат ртути, сочетает в себе антисептические и моющие свойства. Некоторые используют для обработки рук хирурга - руки моют в тазу раствором 1 : 3000, 1 : 5000 - 6 мин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иловый спирт применяется для стерилизации режущих инструментов, резиновых и полиэтиленовых трубок, 96%-м спиртом дубят руки хирурги перед операцие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отя 70%-й спирт бактерициднее 96%-го, однако спорообразная инфекция не погибает длительное время. Возбудители газовой гангрены и споры сибирской язвы могут сохраняться в спирте в течение нескольких месяце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увеличения бактерицидности спиртовых растворов к ним добавляются тимол (1 : 1000), 1%-й раствор бриллиантового зеленого (раствор Баккала), формалин и др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но используются бактерицидные свойства галогенов. Н. И. Пирогов применял йод спиртовый 2%-й, 5%-й и 10%-й, еще не зная о существовании микроорганизмов. Йод обладает бактерицидным и спороцидным эффектом. Он и ныне не утратил своего значения. Однако чаще используют его комплексные соединения с поверхностью - активными веществами, так называемыми. йодофорами, к которым относятся йодонат, йодопиродон, йодолан и др. Они чаще применяются для обработки рук хирурга и операционного по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единения хлора издавна используются для дезинфекции (хлорная известь) и стерилизация (гипохлорид натрия, хлорамин и др.). Бактерицидность этих препаратов зависит от содержания в них активного хлора. В хлорамине активного хлора 28-29 %, а дихлоризоциануровой кислоте - 70-80 %, гипохлориде натрия - 9,5 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кись водорода (33 % перекись водорода - пергидроль) в 3 % и 6 % концентрации используется для стерилизации и дезинфекции Она безвредна для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сь перекиси водорода с муравьиной кислотой, предложенная И. Д. Житнюком и П. А. Мелехоым в 1970 г., была названа первомуром. В процессе приготовления С-4 образуется надмуравьиная кислота - она и является действующим началом. Используется для обработки рук хирурга или стерилизации инстр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хословакии предложили перстерил для стерилизации резиновых и полиэтиленовых труб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и выпущен бета-пропиолактон. В концентрации 1 : 1000 синегнойная палочка в 2%-м растворе погибает в течение 10 мин. Его добавляют в количестве 0,2% в готовые питательные среды, которые затем инкубируют 2 ч при 37°С. Если оставить среду на ночь, пропиолактон полностью разложи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авно используются бактерицидные свойства галогенов. Н. И. Пирогов применял йод спиртовый 2%-й, 5%-й и 10%-й, еще не зная о существовании микроорганизмов. Йод обладает бактерицидным и спороцидным эффектом. Он и ныне не утратил своего значения. Однако чаще используют его комплексные соединения с поверхностью - активными веществами, так называемыми. йодофорами, к которым относятся йодонат, йодопиродон, йодолан и др. Они чаще применяются для обработки рук хирурга и операционного пол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единения хлора издавна используются для дезинфекции (хлорная известь) и стерилизация (гипохлорид натрия, хлорамин и др.). Бактерицидность этих препаратов зависит от содержания в них активного хлора. В хлорамине активного хлора 28-29 %, а дихлоризоциануровой кислоте - 70-80 %, гипохлориде натрия - 9,5 %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екись водорода (33 % перекись водорода - пергидроль) в 3 % и 6 % концентрации используется для стерилизации и дезинфекции Она безвредна для человека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месь перекиси водорода с муравьиной кислотой, предложенная И. Д. Житнюком и П. А. Мелехоым в 1970 г., была названа первомуром. В процессе приготовления С-4 образуется надмуравьиная кислота - она и является действующим началом. Используется для обработки рук хирурга или стерилизации инструмент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Чехословакии предложили перстерил для стерилизации резиновых и полиэтиленовых трубок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России выпущен бета-пропиолактон. В концентрации 1 : 1000 синегнойная палочка в 2%-м растворе погибает в течение 10 мин. Его добавляют в количестве 0,2% в готовые питательные среды, которые затем инкубируют 2 ч при 37°С. Если оставить среду на ночь, пропиолактон полностью разложитс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ионизирующим излучение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микробная обработка может быть осуществлена с помощью ионизирующего излучения (у-лучи), ультрафиолетовых лучей и ультразвука. Наибольшее применение в наше время получила стерилизация у-лучам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ационный метод или лучевую стерилизацию γ-лучами, применяют в специальных установках при промышленной стерилизации однократного применения- полимерных шприцев, систем переливания крови, чашек Петри, пипеток и др.хрупких и термолабильных издел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тся изотопы Со60 и Cs137. Доза проникающей радиации должна быть весьма значительной - до 20-25 мкГр, что требует соблюдения особо строгих мер безопасности. В связи с этим лучевая стерилизация проводится в специальных помещениях и является заводским методом стерилизации (непосредственно в стационарах она не производитс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инструментов и прочих материалов проводится в герметичных упаковках и при целостности последних сохраняется до 5 лет. Герметичная упаковка делает удобными хранение и использование инструментов (необходимо просто вскрыть упаковку). Метод выгоден для стерилизации несложных одноразовых инструментов (шприцы, шовный материал, катетеры, зонды, системы для переливания крови, перчатки и пр.) и получает все более широкое распространение. Во многом это объясняется тем, что при лучевой стерилизации нисколько не теряются свойства стерилизуемых объектов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ионизирующим излучение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микробная обработка может быть осуществлена с помощью ионизирующего излучения (у-лучи), ультрафиолетовых лучей и ультразвука. Наибольшее применение в наше время получила стерилизация у-лучам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диационный метод или лучевую стерилизацию γ-лучами, применяют в специальных установках при промышленной стерилизации однократного применения- полимерных шприцев, систем переливания крови, чашек Петри, пипеток и др.хрупких и термолабильных издел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пользуются изотопы Со60 и Cs137. Доза проникающей радиации должна быть весьма значительной - до 20-25 мкГр, что требует соблюдения особо строгих мер безопасности. В связи с этим лучевая стерилизация проводится в специальных помещениях и является заводским методом стерилизации (непосредственно в стационарах она не производится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инструментов и прочих материалов проводится в герметичных упаковках и при целостности последних сохраняется до 5 лет. Герметичная упаковка делает удобными хранение и использование инструментов (необходимо просто вскрыть упаковку). Метод выгоден для стерилизации несложных одноразовых инструментов (шприцы, шовный материал, катетеры, зонды, системы для переливания крови, перчатки и пр.) и получает все более широкое распространение. Во многом это объясняется тем, что при лучевой стерилизации нисколько не теряются свойства стерилизуемых объектов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ультрафиолетовым излучение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УФ-излучения (длина волны 260 нм) — ртутные кварцевые лампы. Их мощное бактериостатическое действие основано на совпадении спектра испускания лампы и спектра поглощения ДНК микроорганизмов, что может является причиной их гибели при длительной обработке излучением кварцевых ламп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едостаточно мощном действии УФ в прокариотической клетке активизируются процессы световой и темновой репарации, то есть клетка восстанавлив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применяется для стерилизации помещений, оборудования в биксах, а также для стерилизации дистиллированной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ультрафиолетовым излучение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точники УФ-излучения (длина волны 260 нм) — ртутные кварцевые лампы. Их мощное бактериостатическое действие основано на совпадении спектра испускания лампы и спектра поглощения ДНК микроорганизмов, что может является причиной их гибели при длительной обработке излучением кварцевых ламп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недостаточно мощном действии УФ в прокариотической клетке активизируются процессы световой и темновой репарации, то есть клетка восстанавливаетс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применяется для стерилизации помещений, оборудования в биксах, а также для стерилизации дистиллированной вод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ый стерилизатор позволяющий стерилизовать хирургические инструменты и перевязочные материалы сухим теплом и ультрафиолетовыми лучами. Имеет мощное бактерицидное действ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циркулятор предназначен для обеззараживания воздуха помещений в присутствии и отсутствии людей в процессе принудительной циркуляции воздушного потока через корпус, внутри которого размещены две бактерицидные лампы низкого д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цидная камера для хранения стерильных медицинских издел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ффективный стерилизатор позволяющий стерилизовать хирургические инструменты и перевязочные материалы сухим теплом и ультрафиолетовыми лучами. Имеет мощное бактерицидное действи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циркулятор предназначен для обеззараживания воздуха помещений в присутствии и отсутствии людей в процессе принудительной циркуляции воздушного потока через корпус, внутри которого размещены две бактерицидные лампы низкого давл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цидная камера для хранения стерильных медицинских издел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ерилизации и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: паровая и воздушная(сухожарова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: газовая или химическими раствор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ационная стерилизация — применяется в промышленном вариан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мембранных фильтров — применяется для получения небольшого количества стерильных растворов, качество которых может резко ухудшиться при действии других методов стерил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ы стерилизации и дезинфек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: паровая и воздушная(сухожаровая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: газовая или химическими растворам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диационная стерилизация — применяется в промышленном вариант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мембранных фильтров — применяется для получения небольшого количества стерильных растворов, качество которых может резко ухудшиться при действии других методов стерилизаци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ий метод стерилизации. Бактериальная фильтр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остоит в отделении микробов от жидкости с помощью стерильных микропористых филь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фильтрации объясняется главным образом адсорбцией микробов, происходящей в порах фильтрующих материалов, которые в большинстве случаев заряжены отрицатель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микропористого фильтрующего материала используют каолин, фарфор, бумажно-асбестовую массу, инфузорную землю, коллодий и другие пористые материалы, а также стекл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ханический метод стерилизации. Бактериальная фильтрац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состоит в отделении микробов от жидкости с помощью стерильных микропористых фильтр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ханизм фильтрации объясняется главным образом адсорбцией микробов, происходящей в порах фильтрующих материалов, которые в большинстве случаев заряжены отрицательно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ачестве микропористого фильтрующего материала используют каолин, фарфор, бумажно-асбестовую массу, инфузорную землю, коллодий и другие пористые материалы, а также стекл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ий метод стерилизации. Бактериальная фильт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ий метод стерилизации с помощью микропористых фильтров имеет некоторые преимущества по сравнению с методами тепловой стерилизации, когда раствор подвергается воздействию высокой температуры. Для многих растворов термолабильных веществ он по существу является вообще единственным доступным методом стери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е применение находят микропористые фильтры на химико-фармацевтических заводах и при производстве вакцин и сыворот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ьт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ханический метод стерилизации. Бактериальная фильтрац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ханический метод стерилизации с помощью микропористых фильтров имеет некоторые преимущества по сравнению с методами тепловой стерилизации, когда раствор подвергается воздействию высокой температуры. Для многих растворов термолабильных веществ он по существу является вообще единственным доступным методом стерилиз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ирокое применение находят микропористые фильтры на химико-фармацевтических заводах и при производстве вакцин и сывороток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альны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льт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ерилизации, разрешенные для применения в ЛП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ы стерилизации, разрешенные для применения в ЛПУ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жигание и кипячение 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жигание в настоящее время для стерилизации инструментов не используется. Метод можно применять в домашних условиях при невозможности использования других. Обжигание металлических инструментов проводится открытым пламенем. Обычно на металлический поднос кладут инструмент, наливают небольшое количество этилового спирта и поджигают его. 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ипячение долгое время было основным способом стерилизации инструментов, но в последнее время применяется редко, так как при этом методе достигается температура лишь в 100°С, что недостаточно для уничтожения спороносных бактерий. 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нструменты кипятят в специальных электрических стерилизаторах различной емкости. Инструменты в раскрытом виде (шприцы в разобранном виде) укладывают на сетку и погружают в дистиллированную воду (возможно добавление гидрокарбоната натрия - до 2% раствора). 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ычное время стерилизации - 30 минут с момента закипания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жигание и кипячение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жигание в настоящее время для стерилизации инструментов не используется. Метод можно применять в домашних условиях при невозможности использования других. Обжигание металлических инструментов проводится открытым пламенем. Обычно на металлический поднос кладут инструмент, наливают небольшое количество этилового спирта и поджигают его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ипячение долгое время было основным способом стерилизации инструментов, но в последнее время применяется редко, так как при этом методе достигается температура лишь в 100°С, что недостаточно для уничтожения спороносных бактерий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струменты кипятят в специальных электрических стерилизаторах различной емкости. Инструменты в раскрытом виде (шприцы в разобранном виде) укладывают на сетку и погружают в дистиллированную воду (возможно добавление гидрокарбоната натрия - до 2% раствора)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ычное время стерилизации - 30 минут с момента закипани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арово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остижения температур выше точки кипения воды пользуются автоклавом. Автоклав представляет собой установку для стерилизации паром под давлением. Температура насыщенного пара зависит от д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 работы автокл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2 °C — 2 атмосферы(2 кгс/см2) — 20 минут — основной режим. Стерилизуют все изделия (стекло, металл, текстиль, КРОМЕ РЕЗИНОВЫХ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0 °C — 1,1 атмосфера(1,1 кгс/см2) — 45 минут — щадящий режим. (стекло, металл, резиновые изделия, полимерные изделия — согласно паспорту, тексти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0 °C — 0,5 атмосферы(0,5 кгс/см2) — 180 мин — особо щадящий режим(нестойкие препараты, питательные сре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актный переносной                      автокла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арово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достижения температур выше точки кипения воды пользуются автоклавом. Автоклав представляет собой установку для стерилизации паром под давлением. Температура насыщенного пара зависит от давле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жимы работы автоклав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32 °C — 2 атмосферы(2 кгс/см2) — 20 минут — основной режим. Стерилизуют все изделия (стекло, металл, текстиль, КРОМЕ РЕЗИНОВЫХ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20 °C — 1,1 атмосфера(1,1 кгс/см2) — 45 минут — щадящий режим. (стекло, металл, резиновые изделия, полимерные изделия — согласно паспорту, текстиль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10 °C — 0,5 атмосферы(0,5 кгс/см2) — 180 мин — особо щадящий режим(нестойкие препараты, питательные среды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пактный переносной                      автоклав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едко удается достичь того же эффекта дробной стерилизацией в текучем паре при 100°С (тиндализация). Жидкость стерилизуется в этом случае при 100°С три дня подряд по 30 мин ежедневно; в промежутках между нагреваниями ее хранят в термостате, для того чтобы споры проросли, а затем вегетативные клетки были уничтожены при следующем нагрев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многих целей довольствуются частичной стерилизацией, т.е. уничтожением вегетативных форм микроорганизмов. Такого эффекта обычно достигают путем пастеризации - выдерживания в течение 5-10 мин при 75 или 80°С. Пастеризацией частично стерилизуют, в частности, молоко, вина. Применяют два метода пастеризации : кратковременное нагревание (20 с при 71,5-74°С) и сильное нагревание (2-5 с при 85-87°С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редко удается достичь того же эффекта дробной стерилизацией в текучем паре при 100°С (тиндализация). Жидкость стерилизуется в этом случае при 100°С три дня подряд по 30 мин ежедневно; в промежутках между нагреваниями ее хранят в термостате, для того чтобы споры проросли, а затем вегетативные клетки были уничтожены при следующем нагреван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многих целей довольствуются частичной стерилизацией, т.е. уничтожением вегетативных форм микроорганизмов. Такого эффекта обычно достигают путем пастеризации - выдерживания в течение 5-10 мин при 75 или 80°С. Пастеризацией частично стерилизуют, в частности, молоко, вина. Применяют два метода пастеризации : кратковременное нагревание (20 с при 71,5-74°С) и сильное нагревание (2-5 с при 85-87°С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оздушн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хой жар. Стерилизация осуществляется в специальных аппаратах - сухо-жаровых шкафах-стерилизаторах. Стерилизация в сухожаровом шкафу происходит при помощи циркуляции внутри него горячего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терилизации сухим жаром бактериальные споры переносят более высокие температуры и притом дольше, чем при стерилизации влажным жаром. Поэтому жаростойкую стеклянную посуду, порошки, масла и т. п. стерилизуют в течение 1 часа при температуре 180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в автоклаве и сухожаровом шкафу в настоящее время является главным, наиболее надежным способом стерилизации хирургических инструментов, стеклянной посу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воздушн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хой жар. Стерилизация осуществляется в специальных аппаратах - сухо-жаровых шкафах-стерилизаторах. Стерилизация в сухожаровом шкафу происходит при помощи циркуляции внутри него горячего воздух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стерилизации сухим жаром бактериальные споры переносят более высокие температуры и притом дольше, чем при стерилизации влажным жаром. Поэтому жаростойкую стеклянную посуду, порошки, масла и т. п. стерилизуют в течение 1 часа при температуре 180°С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в автоклаве и сухожаровом шкафу в настоящее время является главным, наиболее надежным способом стерилизации хирургических инструментов, стеклянной посуды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гласперленовый метод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нцип действия гласперленового стерилизатора основан на приведении стерилизуемых хирургических инструментов в контакт с маленькими стеклянными сферами, имеющими температуру 250С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терилизатор предназначен для быстрой стерилизации цельнометаллических, не имеющих полостей, каналов и замковых частей, стоматологических и других медицинских инструментов и приспособлений в среде нагретых до температуры 190-290ºС стеклянных шариков при полном погружении в них мелких изделий, а также рабочих частей более крупных изделий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терилизация инструмента производится в течение очень короткого времени — не более 20 секунд. Благодаря такому короткому периоду и неразрушающему воздействию стерилизационных (глассперленовых) шариков на инструмент, негативное влияние высокой температуры практически отсутствует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сего за 5 секунд стерилизует: щипцы, клещи, скальпель-держатели, зонды, шпатели, долота, зубила, алмазы, файлы, боры, корневые элеваторы, расширители, угловые наконечники, иглодержатели, пинцеты, десневые ножницы и т.д.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гласперленов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нцип действия гласперленового стерилизатора основан на приведении стерилизуемых хирургических инструментов в контакт с маленькими стеклянными сферами, имеющими температуру 250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тор предназначен для быстрой стерилизации цельнометаллических, не имеющих полостей, каналов и замковых частей, стоматологических и других медицинских инструментов и приспособлений в среде нагретых до температуры 190-290ºС стеклянных шариков при полном погружении в них мелких изделий, а также рабочих частей более крупных издели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инструмента производится в течение очень короткого времени — не более 20 секунд. Благодаря такому короткому периоду и неразрушающему воздействию стерилизационных (глассперленовых) шариков на инструмент, негативное влияние высокой температуры практически отсутствует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сего за 5 секунд стерилизует: щипцы, клещи, скальпель-держатели, зонды, шпатели, долота, зубила, алмазы, файлы, боры, корневые элеваторы, расширители, угловые наконечники, иглодержатели, пинцеты, десневые ножницы и т.д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нфракрасн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огабаритный стерилизатор предназначен для стерилизации стоматологических и микрохирургических инструментов из металлов в условиях госпиталей, поликлиник, больниц и других лечебных и косметологических учреждений. Стерилизация осуществляется инфракрасным мощным кратковременным тепловым воздейств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инфракрасн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логабаритный стерилизатор предназначен для стерилизации стоматологических и микрохирургических инструментов из металлов в условиях госпиталей, поликлиник, больниц и других лечебных и косметологических учреждений. Стерилизация осуществляется инфракрасным мощным кратковременным тепловым воздействие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0360-ACFD-4CF9-8D2F-DF6F4B61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80880" y="48614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27AE-AC7A-4BE1-9B52-FBDE2C4D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5954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415C-7CB5-4741-88CB-05AC7E975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12812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97500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8088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12812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97500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3A8F-E756-4EB1-AA83-48537FAB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E4D9-D5BF-410F-92BB-2F58F062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BD08-4B7E-4AD9-A065-8B4D2381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CBDC-B99A-4C8B-BF83-36AE9114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50A5-D15C-4DDA-9E54-F34FB403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4D45-E0C5-42E8-874E-149804CD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45960" y="720720"/>
            <a:ext cx="844380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2696-7C5D-4FE2-8FD0-3BD47951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BD13-F799-4B5D-A018-3745A501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ED3D-342D-4EE0-AD31-FF1B72A7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954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10CE-4EC4-4F00-A2D6-8C7C1039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88C7-0B2A-459C-81A5-7A468D05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280880" y="48614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9AC4-E9AB-4963-90D6-B3BBD15C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5954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F960-B674-4949-B1C7-EC4773377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12812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97500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28088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412812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97500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C930-C25C-4CE4-B3D6-7C1C070D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9E0E-BE4E-492B-B7F6-E73325C2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CD93-A3A5-4B49-9213-89282C35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4ECA-BB10-41DF-83BB-E45454ED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45960" y="720720"/>
            <a:ext cx="844380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F4BB-3734-475E-B55B-D30A6052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A8F0-DA51-498E-86CD-88A671C1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5954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D26B-C87E-4D15-A14D-BFFF7D62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C376-AC1A-4EF1-A20D-BD81727B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52520" y="1281240"/>
            <a:ext cx="474480" cy="5540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66880" y="1281240"/>
            <a:ext cx="355320" cy="5540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85720" y="1774800"/>
            <a:ext cx="459000" cy="55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87480" y="1774800"/>
            <a:ext cx="398520" cy="5526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38240" y="1689120"/>
            <a:ext cx="606240" cy="49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25480" y="1155600"/>
            <a:ext cx="34920" cy="12272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79520" y="2077920"/>
            <a:ext cx="8912160" cy="3672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-14400" bIns="-1440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32076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279440" indent="-255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3" marL="1790640" indent="-255600">
              <a:spcBef>
                <a:spcPts val="9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4" marL="2301840" indent="-255600">
              <a:spcBef>
                <a:spcPts val="9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5" marL="2301840" indent="-25560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6" marL="2301840" indent="-25560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90720" y="7378560"/>
            <a:ext cx="206352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346520" y="7378560"/>
            <a:ext cx="206388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75BF-107B-4F25-B061-90AE0C30BF9A}" type="slidenum">
              <a:rPr b="0" lang="ru-RU" sz="16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844720"/>
            <a:ext cx="9759600" cy="1226880"/>
            <a:chOff x="0" y="2844720"/>
            <a:chExt cx="9759600" cy="1226880"/>
          </a:xfrm>
        </p:grpSpPr>
        <p:grpSp>
          <p:nvGrpSpPr>
            <p:cNvPr id="49" name="Group 3"/>
            <p:cNvGrpSpPr/>
            <p:nvPr/>
          </p:nvGrpSpPr>
          <p:grpSpPr>
            <a:xfrm>
              <a:off x="316080" y="2970360"/>
              <a:ext cx="773640" cy="553320"/>
              <a:chOff x="316080" y="2970360"/>
              <a:chExt cx="773640" cy="55332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316080" y="2970360"/>
                <a:ext cx="475920" cy="553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732600" y="2970360"/>
                <a:ext cx="357120" cy="553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52160" y="3461040"/>
              <a:ext cx="801000" cy="552960"/>
              <a:chOff x="452160" y="3461040"/>
              <a:chExt cx="801000" cy="55296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52160" y="3461040"/>
                <a:ext cx="459000" cy="55296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853920" y="3461040"/>
                <a:ext cx="399240" cy="55296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3377520"/>
              <a:ext cx="606960" cy="49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87960" y="2844720"/>
              <a:ext cx="34200" cy="12268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42360" y="3802320"/>
              <a:ext cx="9417240" cy="64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32076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279440" indent="-255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3" marL="1790640" indent="-255600">
              <a:spcBef>
                <a:spcPts val="9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4" marL="2301840" indent="-255600">
              <a:spcBef>
                <a:spcPts val="9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5" marL="2301840" indent="-25560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6" marL="2301840" indent="-25560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1072800" y="7289640"/>
            <a:ext cx="206388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714480" y="7289640"/>
            <a:ext cx="313668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7429680" y="7289640"/>
            <a:ext cx="206352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24A0-ADB0-4D8F-8DDF-E30BC416A47A}" type="slidenum">
              <a:rPr b="0" lang="ru-RU" sz="16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терилизацие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зывают полное уничтожение микроорганизмов и их спор на инструментах, посуде, медикаментах и т.д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езинфекцие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зывают полное уничтожение патогенных микроорганизмов на объектах окружающей среды с помощью химических веществ - дезинфектантов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Методы стерилизации и дезинфекции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5960" y="720360"/>
            <a:ext cx="8443800" cy="68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Хи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газов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мировой практике встречаются 3 основных метода </a:t>
            </a:r>
            <a:r>
              <a:rPr b="0" i="1" lang="ru-RU" sz="2000" spc="-1" strike="noStrike">
                <a:solidFill>
                  <a:srgbClr val="ff0000"/>
                </a:solidFill>
                <a:latin typeface="Tahoma"/>
              </a:rPr>
              <a:t>низкотемпературной стерилизац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 газовый этиленоксидный, газовый формальдегидный и плазменны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Газовая стерилизац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осуществляется в специальных герметичных камерах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ерилизующим агентом обычно являются: пары формалина (на дно камеры кладут таблетки формальдегида) или окись этилена. Инструменты, уложенные на сетку, считаются стерильными через 6-48 часов (в зависимости от компонентов газовой смеси и температуры в камере)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личительной чертой метода является его минимальное отрицательное влияние на качество инструментария, в связи с чем способ используют прежде всего для стерилизации оптических, особо точных и дорогостоящих инструментов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Хи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газов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2415960"/>
            <a:ext cx="711360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стерилизации пищевых продуктов, лекарственных препаратов и разного рода приборов, а также в лабораторной практике оправдало себя применение окиси этилена, которая убивает и вегетативные клетки, и споры, но действует только в том случае, если подвергаемые стерилизации материалы содержат некоторое количество (5-15%) воды. Окись этилена применяют в виде газовой смеси (с N2 или С02), в которой ее доля составляет от 2 до 50%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иленоксидный метод обеспечивает самый щадящий температурный режим стерилиз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5" descr="formomat"/>
          <p:cNvPicPr/>
          <p:nvPr/>
        </p:nvPicPr>
        <p:blipFill>
          <a:blip r:embed="rId1"/>
          <a:stretch/>
        </p:blipFill>
        <p:spPr>
          <a:xfrm>
            <a:off x="7113600" y="2416320"/>
            <a:ext cx="2514600" cy="41767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758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Хи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плазменн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15800" y="1552680"/>
            <a:ext cx="7689960" cy="64483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Плазменный метод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озволяет создать биоцидную среду на основе водного раствора пероксида водорода, а также низкотемпературной плазмы (ионизированный газ, образующийся при низком давлении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то самый современный метод стерилизации, известный на сегодняшний день. Он позволяет стерилизовать любые медицинские изделия, от полых инструментов до кабелей, электроприборов,к которым в ряде случаев вообще не удается применить ни один из известных методов стерилизаци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 этом методе после впрыскивания раствора перекиси водорода в стерилизационную камеру включается источник электромагнитного излучения частотой 13,56 Мгц, под воздействием которого одновременно происходит деление одной части молекул Н2О2 на две группы (ОН-), а другой части - на одну гидропероксильную группу (ООН-) и один атом водорода, сопровождающееся выделением видимого и ультрафиолетового излучения. В результате создается биоцидная среда, состоящая из молекул перекиси водорода, свободных радикалов и ультрафиолетового излуч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HMTS-80"/>
          <p:cNvPicPr/>
          <p:nvPr/>
        </p:nvPicPr>
        <p:blipFill>
          <a:blip r:embed="rId1"/>
          <a:stretch/>
        </p:blipFill>
        <p:spPr>
          <a:xfrm>
            <a:off x="0" y="2776680"/>
            <a:ext cx="2048040" cy="285732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0" y="4145040"/>
            <a:ext cx="9906120" cy="4145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азма образуется под воздействием сильного электромагнитного излучения в атмосфере паров перекиси водорода. При отключении электромагнитного поля свободные радикалы преобразуются в молекулы воды и кислорода, не оставляя никаких токсичных отходо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инимальное время обработки в плазменном стерилизаторе – от 35 минут, рабочая температура – 36-60°С. Одно из основных преимуществ этого метода – отсутствие токсичных отходов, образуются только кислород и водный пар. Плазменная стерилизация уничтожает все формы и виды микроорганизмов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азменные стерилизаторы – перспективное оборудование, но для большинства российских медицинских учреждений слишком дорогостояще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4" descr="imagesCA03CC9V"/>
          <p:cNvPicPr/>
          <p:nvPr/>
        </p:nvPicPr>
        <p:blipFill>
          <a:blip r:embed="rId1"/>
          <a:stretch/>
        </p:blipFill>
        <p:spPr>
          <a:xfrm>
            <a:off x="1568520" y="0"/>
            <a:ext cx="6840360" cy="381636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45960" y="720360"/>
            <a:ext cx="8443800" cy="68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Хи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растворами антисептиков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9240" y="2199960"/>
            <a:ext cx="9056880" cy="6033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ерилизация растворами химических антисептиков, также как лучевая и газовая стерилизация, относится к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холодным способам стерилизаци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 не приводит к затуплению инструментов, в связи с чем применяется для обработки прежде всего режущих хирургических инструментов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стерилизации в основном используют три раствора: тройной раствор, 96° этиловый спирт и 6% перекись водорода. В последнее время для холодной стерилизации оптических инструментов стали применять спиртовой раствор хлоргексидина, первомур и другие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холодной стерилизации инструменты полностью погружают в раскрытом (или разобранном) виде в один из указанных растворов. При замачивании в спирте и тройном растворе инструменты считаются стерильными через 2-3 часа, в перекиси водорода - через 6 часов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нный метод представляет интерес для стерилизации растворов, содержащих лекарственные вещества, изменяющиеся при воздействии высокой температуры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качестве антисептиков находят применение: фенол, трикрезол, хинозол, нипагин, нипазол, хлорэтон, меркурофен и цефирол. В литературе имеются также сообщения о применении для этой цели хлоркрезола, хлорбутола, фенилмеркурнитрата, соединений четвертичного аммония (бензалконий, цетримид) и некоторых других веществ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72520" y="391680"/>
            <a:ext cx="9356760" cy="8001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рболовая кислота входит в тройной раствор (раствор Крупенина). Им стерилизуют режущие инструменты и предметы из пластмасс. В нем хранятся простерилизованные иглы, скальпели, корнцанги, полиэтиленовые трубк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зол с зеленым мылом используется для помывки стен, полов, мебели операционно-перевязочного блока, а также для обработки инструментов, резиновых перчаток, предметов, загрязненных гноем или калом во время операци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улема (дихлорид ртути) 1 : 1000, 1 : 3000 Стерилизуются перчатки, дренажи и другие предметы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ксицианид ртути 1 : 10000 применяется для стерилизации мочеточниковых катетеров, цистоскопов и других инструментов с оптико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иоцид - препарат ртути, сочетает в себе антисептические и моющие свойства. Некоторые используют для обработки рук хирурга - руки моют в тазу раствором 1 : 3000, 1 : 5000 - 6 мин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тиловый спирт применяется для стерилизации режущих инструментов, резиновых и полиэтиленовых трубок, 96%-м спиртом дубят руки хирурги перед операцие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отя 70%-й спирт бактерициднее 96%-го, однако спорообразная инфекция не погибает длительное время. Возбудители газовой гангрены и споры сибирской язвы могут сохраняться в спирте в течение нескольких месяце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ля увеличения бактерицидности спиртовых растворов к ним добавляются тимол (1 : 1000), 1%-й раствор бриллиантового зеленого (раствор Баккала), формалин и др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49000" y="328320"/>
            <a:ext cx="9356760" cy="8001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авно используются бактерицидные свойства галогенов. Н. И. Пирогов применял йод спиртовый 2%-й, 5%-й и 10%-й, еще не зная о существовании микроорганизмов. Йод обладает бактерицидным и спороцидным эффектом. Он и ныне не утратил своего значения. Однако чаще используют его комплексные соединения с поверхностью - активными веществами, так называемыми. йодофорами, к которым относятся йодонат, йодопиродон, йодолан и др. Они чаще применяются для обработки рук хирурга и операционного пол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единения хлора издавна используются для дезинфекции (хлорная известь) и стерилизация (гипохлорид натрия, хлорамин и др.). Бактерицидность этих препаратов зависит от содержания в них активного хлора. В хлорамине активного хлора 28-29 %, а дихлоризоциануровой кислоте - 70-80 %, гипохлориде натрия - 9,5 %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кись водорода (33 % перекись водорода - пергидроль) в 3 % и 6 % концентрации используется для стерилизации и дезинфекции Она безвредна для человек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месь перекиси водорода с муравьиной кислотой, предложенная И. Д. Житнюком и П. А. Мелехоым в 1970 г., была названа первомуром. В процессе приготовления С-4 образуется надмуравьиная кислота - она и является действующим началом. Используется для обработки рук хирурга или стерилизации инструмент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Чехословакии предложили перстерил для стерилизации резиновых и полиэтиленовых трубок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России выпущен бета-пропиолактон. В концентрации 1 : 1000 синегнойная палочка в 2%-м растворе погибает в течение 10 мин. Его добавляют в количестве 0,2% в готовые питательные среды, которые затем инкубируют 2 ч при 37°С. Если оставить среду на ночь, пропиолактон полностью разложитс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07800" y="904680"/>
            <a:ext cx="9093240" cy="11523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Стерилизация ионизирующим излучением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0520" y="1479240"/>
            <a:ext cx="9345600" cy="6521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4000"/>
          </a:bodyPr>
          <a:p>
            <a:pPr marL="360720" indent="-360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нтимикробная обработка может быть осуществлена с помощью ионизирующего излучения (у-лучи), ультрафиолетовых лучей и ультразвука. Наибольшее применение в наше время получила стерилизация у-лучам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0720" indent="-360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диационный метод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или лучевую стерилизацию γ-лучами, применяют в специальных установках при промышленной стерилизации однократного применения- полимерных шприцев, систем переливания крови, чашек Петри, пипеток и др.хрупких и термолабильных издел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0720" indent="-360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пользуются изотопы Со60 и Cs137. Доза проникающей радиации должна быть весьма значительной - до 20-25 мкГр, что требует соблюдения особо строгих мер безопасности. В связи с этим лучевая стерилизация проводится в специальных помещениях и является заводским методом стерилизации (непосредственно в стационарах она не производится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0720" indent="-360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ерилизация инструментов и прочих материалов проводится в герметичных упаковках и при целостности последних сохраняется до 5 лет. Герметичная упаковка делает удобными хранение и использование инструментов (необходимо просто вскрыть упаковку). Метод выгоден для стерилизации несложных одноразовых инструментов (шприцы, шовный материал, катетеры, зонды, системы для переливания крови, перчатки и пр.) и получает все более широкое распространение. Во многом это объясняется тем, что при лучевой стерилизации нисколько не теряются свойства стерилизуемых объектов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60160" y="687240"/>
            <a:ext cx="9690120" cy="14083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Стерилизация ультрафиолетовым излучением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точники УФ-излучения (длина волны 260 нм) — ртутные кварцевые лампы. Их мощное бактериостатическое действие основано на совпадении спектра испускания лампы и спектра поглощения ДНК микроорганизмов, что может является причиной их гибели при длительной обработке излучением кварцевых ламп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недостаточно мощном действии УФ в прокариотической клетке активизируются процессы световой и темновой репарации, то есть клетка восстанавливаетс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тод применяется для стерилизации помещений, оборудования в биксах, а также для стерилизации дистиллированной вод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72520" y="5871960"/>
            <a:ext cx="5975640" cy="1569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ффективный стерилизатор позволяющий стерилизовать хирургические инструменты и перевязочные материалы сухим теплом и ультрафиолетовыми лучами. Имеет мощное бактерицидное действ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Picture 29" descr="untitled1"/>
          <p:cNvPicPr/>
          <p:nvPr/>
        </p:nvPicPr>
        <p:blipFill>
          <a:blip r:embed="rId1"/>
          <a:stretch/>
        </p:blipFill>
        <p:spPr>
          <a:xfrm>
            <a:off x="0" y="0"/>
            <a:ext cx="2857680" cy="3438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0" descr="h8000_c"/>
          <p:cNvPicPr/>
          <p:nvPr/>
        </p:nvPicPr>
        <p:blipFill>
          <a:blip r:embed="rId2"/>
          <a:stretch/>
        </p:blipFill>
        <p:spPr>
          <a:xfrm>
            <a:off x="272880" y="3929040"/>
            <a:ext cx="2159280" cy="2016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1" descr="42208"/>
          <p:cNvPicPr/>
          <p:nvPr/>
        </p:nvPicPr>
        <p:blipFill>
          <a:blip r:embed="rId3"/>
          <a:stretch/>
        </p:blipFill>
        <p:spPr>
          <a:xfrm>
            <a:off x="7184880" y="0"/>
            <a:ext cx="1871640" cy="23605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32"/>
          <p:cNvSpPr/>
          <p:nvPr/>
        </p:nvSpPr>
        <p:spPr>
          <a:xfrm>
            <a:off x="4160880" y="2631240"/>
            <a:ext cx="5483160" cy="22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циркулятор предназначен для обеззараживания воздуха помещений в присутствии и отсутствии людей в процессе принудительной циркуляции воздушного потока через корпус, внутри которого размещены две бактерицидные лампы низкого давл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33"/>
          <p:cNvSpPr/>
          <p:nvPr/>
        </p:nvSpPr>
        <p:spPr>
          <a:xfrm>
            <a:off x="2865600" y="165960"/>
            <a:ext cx="287964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актерицидная камера для хранения стерильных медицинских издел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Arial"/>
              </a:rPr>
              <a:t>Методы стерилизации и дезинфекции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00160" y="2262600"/>
            <a:ext cx="970596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 algn="ctr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ермическая: паровая и воздушная(сухожаровая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Химическая: газовая или химическими растворам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диационная стерилизация — применяется в промышленном вариант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етод мембранных фильтров — применяется для получения небольшого количества стерильных растворов, качество которых может резко ухудшиться при действии других методов стерилизаци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Механический метод стерилизации. Бактериальная фильтрация 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60520" y="1263240"/>
            <a:ext cx="5970600" cy="7155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тод состоит в отделении микробов от жидкости с помощью стерильных микропористых фильтр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ханизм фильтрации объясняется главным образом адсорбцией микробов, происходящей в порах фильтрующих материалов, которые в большинстве случаев заряжены отрицательн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качестве микропористог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фильтрующего материал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спользуют каолин, фарфор, бумажно-асбестовую массу, инфузорную землю, коллодий и другие пористые материалы, а также стекло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5" descr="img2"/>
          <p:cNvPicPr/>
          <p:nvPr/>
        </p:nvPicPr>
        <p:blipFill>
          <a:blip r:embed="rId1"/>
          <a:stretch/>
        </p:blipFill>
        <p:spPr>
          <a:xfrm>
            <a:off x="0" y="3208320"/>
            <a:ext cx="4089240" cy="367200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Механический метод стерилизации. Бактериальная фильтрация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2487240"/>
            <a:ext cx="74008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ханический метод стерилизаци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 помощью микропористых фильтров имеет некоторые преимущества по сравнению с методами тепловой стерилизации, когда раствор подвергается воздействию высокой температуры. Для многих растворов термолабильных веществ он по существу является вообще единственным доступным методом стерилиз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ирокое применение находя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икропористые фильтр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химико-фармацевтических заводах и при производстве вакцин и сывороток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4" descr="bacterial_filter"/>
          <p:cNvPicPr/>
          <p:nvPr/>
        </p:nvPicPr>
        <p:blipFill>
          <a:blip r:embed="rId1"/>
          <a:stretch/>
        </p:blipFill>
        <p:spPr>
          <a:xfrm>
            <a:off x="7400880" y="1479600"/>
            <a:ext cx="2238480" cy="2828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880528_Disposable_Bacterial_Viral_Filter_v0_summ"/>
          <p:cNvPicPr/>
          <p:nvPr/>
        </p:nvPicPr>
        <p:blipFill>
          <a:blip r:embed="rId2"/>
          <a:stretch/>
        </p:blipFill>
        <p:spPr>
          <a:xfrm>
            <a:off x="7616880" y="4721400"/>
            <a:ext cx="2016000" cy="17287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6"/>
          <p:cNvSpPr/>
          <p:nvPr/>
        </p:nvSpPr>
        <p:spPr>
          <a:xfrm>
            <a:off x="7113600" y="6520320"/>
            <a:ext cx="279252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ктериаль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ильтр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58068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Методы стерилизации, разрешенные для применения в ЛПУ.</a:t>
            </a: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1795320"/>
          <a:ext cx="9701280" cy="6205680"/>
        </p:xfrm>
        <a:graphic>
          <a:graphicData uri="http://schemas.openxmlformats.org/drawingml/2006/table">
            <a:tbl>
              <a:tblPr/>
              <a:tblGrid>
                <a:gridCol w="2000160"/>
                <a:gridCol w="1854360"/>
                <a:gridCol w="5487840"/>
                <a:gridCol w="358920"/>
              </a:tblGrid>
              <a:tr h="673200">
                <a:tc rowSpan="2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Тип метод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 rowSpan="2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Мет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 rowSpan="2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Стерилизующий аг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 rowSpan="4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Физический (термическ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ров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дяной насыщенный пар под избыточным давле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здуш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ухой горячий возду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фракрас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фракрасное излу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ласперлен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а нагретых стеклянных шар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 rowSpan="5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Химическ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 rowSpan="3"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зов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кись этилена или ее смесь с другими компонент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кись этилена или ее смесь с другими компонент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кись этилена или ее смесь с другими компонент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зме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ры перекиси водорода в сочетании с их низкотемпературной плазм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идкост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творы химических средств (альдегид-, кислород- и хлорсодержащ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80880" y="687240"/>
            <a:ext cx="8443800" cy="903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9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5646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6000"/>
          </a:bodyPr>
          <a:p>
            <a:pPr marL="368640" indent="-368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бжигание и кипячени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бжигани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 настоящее время для стерилизации инструментов не используется. Метод можно применять в домашних условиях при невозможности использования других. Обжигание металлических инструментов проводится открытым пламенем. Обычно на металлический поднос кладут инструмент, наливают небольшое количество этилового спирта и поджигают его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Кипячение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лгое время было основным способом стерилизации инструментов, но в последнее время применяется редко, так как при этом методе достигается температура лишь в 100°С, что недостаточно для уничтожения спороносных бактерий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струменты кипятят в специальных электрических стерилизаторах различной емкости. Инструменты в раскрытом виде (шприцы в разобранном виде) укладывают на сетку и погружают в дистиллированную воду (возможно добавление гидрокарбоната натрия - до 2% раствора)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ычное время стерилизации - 30 минут с момента закипани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0520" y="544320"/>
            <a:ext cx="7075440" cy="68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(паровой метод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68160" y="1479240"/>
            <a:ext cx="6332760" cy="6521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7000"/>
          </a:bodyPr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достижения температур выше точки кипения воды пользую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втоклавом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втоклав представляет собой установку для стерилизации паром под давлением. Температура насыщенного пара зависит от давлени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жимы работы автоклав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32 °C — 2 атмосферы(2 кгс/см2) — 20 минут — основной режим. Стерилизуют все изделия (стекло, металл, текстиль, КРОМЕ РЕЗИНОВЫХ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20 °C — 1,1 атмосфера(1,1 кгс/см2) — 45 минут — щадящий режим. (стекло, металл, резиновые изделия, полимерные изделия — согласно паспорту, текстиль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10 °C — 0,5 атмосферы(0,5 кгс/см2) — 180 мин — особо щадящий режим(нестойкие препараты, питательные среды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dgm_2___1"/>
          <p:cNvPicPr/>
          <p:nvPr/>
        </p:nvPicPr>
        <p:blipFill>
          <a:blip r:embed="rId1"/>
          <a:stretch/>
        </p:blipFill>
        <p:spPr>
          <a:xfrm>
            <a:off x="0" y="0"/>
            <a:ext cx="3770280" cy="6048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good_img_small79132495246de62f447df1"/>
          <p:cNvPicPr/>
          <p:nvPr/>
        </p:nvPicPr>
        <p:blipFill>
          <a:blip r:embed="rId2"/>
          <a:stretch/>
        </p:blipFill>
        <p:spPr>
          <a:xfrm>
            <a:off x="272880" y="5440320"/>
            <a:ext cx="1873440" cy="16239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6"/>
          <p:cNvSpPr/>
          <p:nvPr/>
        </p:nvSpPr>
        <p:spPr>
          <a:xfrm>
            <a:off x="0" y="6769440"/>
            <a:ext cx="372888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мпактный переносно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втокла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280880" y="2416320"/>
            <a:ext cx="8420040" cy="53863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редко удается достичь того же эффекта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робной стерилизацие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текучем паре при 100°С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тиндализация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)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Жидкость стерилизуется в этом случае при 100°С три дня подряд по 30 мин ежедневно; в промежутках между нагреваниями ее хранят в термостате, для того чтобы споры проросли, а затем вегетативные клетки были уничтожены при следующем нагреван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многих целей довольствую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частичной стерилизацией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.е. уничтожением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вегетативных фор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микроорганизмов. Такого эффекта обычно достигают путем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астеризаци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ыдерживания в течение 5-10 мин при 75 или 80°С. Пастеризацией частично стерилизуют, в частности, молоко, вина. Применяют два метода пастеризации : кратковременное нагревание (20 с при 71,5-74°С) и сильное нагревание (2-5 с при 85-87°С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61960" y="686880"/>
            <a:ext cx="8444160" cy="831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07800" y="687240"/>
            <a:ext cx="8443800" cy="758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воздушн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72880" y="2776320"/>
            <a:ext cx="842040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ухой жар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ерилизация осуществляется в специальных аппаратах - сухо-жаровых шкафах-стерилизаторах. Стерилизация в сухожаровом шкафу происходит при помощи циркуляции внутри него горячего воздух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стерилизации сухим жаром бактериальные споры переносят более высокие температуры и притом дольше, чем при стерилизации влажным жаром. Поэтому жаростойкую стеклянную посуду, порошки, масла и т. п. стерилизуют в течение 1 часа при температуре 180°С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ерилизация в автоклаве и сухожаровом шкафу в настоящее время является главным, наиболее надежным способом стерилизации хирургических инструментов, стеклянной посуды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23417273"/>
          <p:cNvPicPr/>
          <p:nvPr/>
        </p:nvPicPr>
        <p:blipFill>
          <a:blip r:embed="rId1"/>
          <a:stretch/>
        </p:blipFill>
        <p:spPr>
          <a:xfrm>
            <a:off x="7353360" y="831960"/>
            <a:ext cx="2552760" cy="2232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45960" y="720360"/>
            <a:ext cx="8443800" cy="68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гласперленов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49600" y="1696680"/>
            <a:ext cx="7051680" cy="6303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9000"/>
          </a:bodyPr>
          <a:p>
            <a:pPr marL="380160" indent="-3801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нцип действия гласперленового стерилизатора основан на приведении стерилизуемых хирургических инструментов в контакт с маленькими стеклянными сферами, имеющими температуру 250С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160" indent="-3801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ерилизатор предназначен для быстрой стерилизации цельнометаллических, не имеющих полостей, каналов и замковых частей, стоматологических и других медицинских инструментов и приспособлений в среде нагретых до температуры 190-290ºС стеклянных шариков при полном погружении в них мелких изделий, а также рабочих частей более крупных изделий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160" indent="-3801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ерилизация инструмента производится в течение очень короткого времени — не более 20 секунд. Благодаря такому короткому периоду и неразрушающему воздействию стерилизационных (глассперленовых) шариков на инструмент, негативное влияние высокой температуры практически отсутствуе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160" indent="-3801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сего за 5 секунд стерилизует: щипцы, клещи, скальпель-держатели, зонды, шпатели, долота, зубила, алмазы, файлы, боры, корневые элеваторы, расширители, угловые наконечники, иглодержатели, пинцеты, десневые ножницы и т.д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8" descr="glasperlen-1"/>
          <p:cNvPicPr/>
          <p:nvPr/>
        </p:nvPicPr>
        <p:blipFill>
          <a:blip r:embed="rId1"/>
          <a:stretch/>
        </p:blipFill>
        <p:spPr>
          <a:xfrm>
            <a:off x="0" y="3855960"/>
            <a:ext cx="2552760" cy="3952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tSHARIKI_thm"/>
          <p:cNvPicPr/>
          <p:nvPr/>
        </p:nvPicPr>
        <p:blipFill>
          <a:blip r:embed="rId2"/>
          <a:stretch/>
        </p:blipFill>
        <p:spPr>
          <a:xfrm>
            <a:off x="272880" y="191304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инфракрасн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736880" y="2055960"/>
            <a:ext cx="4964040" cy="5945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логабаритный стерилизатор предназначен для стерилизации стоматологических и микрохирургических инструментов из металлов в условиях госпиталей, поликлиник, больниц и других лечебных и косметологических учреждений. Стерилизация осуществляется инфракрасным мощным кратковременным тепловым воздействие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4" descr="004d8fa54fb380f93089f1a33b937312"/>
          <p:cNvPicPr/>
          <p:nvPr/>
        </p:nvPicPr>
        <p:blipFill>
          <a:blip r:embed="rId1"/>
          <a:stretch/>
        </p:blipFill>
        <p:spPr>
          <a:xfrm>
            <a:off x="0" y="1984320"/>
            <a:ext cx="4762440" cy="424836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ерафима</dc:creator>
  <dc:description/>
  <dc:language>en-US</dc:language>
  <cp:lastModifiedBy>LEGION</cp:lastModifiedBy>
  <dcterms:modified xsi:type="dcterms:W3CDTF">2015-12-31T12:50:46Z</dcterms:modified>
  <cp:revision>156</cp:revision>
  <dc:subject/>
  <dc:title>Методы стерилизации и дезинфекции</dc:title>
</cp:coreProperties>
</file>